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6E2-3906-4003-86FF-1966C238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975-6E41-4007-9EEE-678D1D5A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D9C-621B-4794-9664-A202D9F7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F9E-B10C-4689-B031-E87DBCE5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BA1-074F-4E68-8C01-873C9913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A96-39E0-4537-AFBB-E2D6C15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CC5-7C80-4E85-9B72-11B3435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883-5146-4E8C-A910-0E40CD6B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710-AAEC-4167-82F8-C5C2BCD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25F-09D3-4BB8-95F6-D461FF1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BA2-9A92-4D1B-AE6C-A5256F7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BFE-E2EA-4924-B2BD-2A6F128F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2DE-CE20-41C8-AC24-614C5CD9A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Tied a dicsőség és imádat, felemeljük kezeinke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És dicsérjük Nagy Neve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0880" y="1916280"/>
            <a:ext cx="92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Ó, Hatalma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kezed nagy csodákat tesz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Veled senki nem ér fel! 2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4:43:02Z</dcterms:created>
  <dc:creator>Sir Robin</dc:creator>
  <dc:description/>
  <dc:language>en-US</dc:language>
  <cp:lastModifiedBy>Balázs</cp:lastModifiedBy>
  <dcterms:modified xsi:type="dcterms:W3CDTF">2008-01-25T10:53:16Z</dcterms:modified>
  <cp:revision>25</cp:revision>
  <dc:subject/>
  <dc:title>Fejet hajt a mindenség lábaid előtt, Neked hódol Föld és ég, minden Rólad beszél. Mondjuk hát: Szent vagy, Urunk! Szent vagy, Urunk!</dc:title>
</cp:coreProperties>
</file>